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1779F-3F32-4411-B057-A42528A1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5C033-2A96-409C-AC47-55064BE7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DCF46-9756-4CC4-BB92-F2DB75C8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954BF-BD9C-49AE-BAC3-54729779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4C37-029B-406B-BA37-DF04FC6C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3B3E-F77D-4B73-A286-F1BAD3B1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07CA-3D25-44C0-9A29-61CC0268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2875-AB71-4295-B35D-15C4E3FC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D885-C8B6-4E00-88FC-15E6D75D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2768-0697-4EFA-86B6-E0BD6502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D260-44FF-4C5B-ABA0-B6ADA82D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9B2C5-1037-4C93-821B-2B00204C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1254-70E6-4D25-8F5A-06BBD0EC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3B50-BEBE-4A2A-ABE5-0AA8309D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228A-53F7-4984-9987-EC5F738C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C322-CDB5-46B8-B186-46C9816A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DB10-9231-4BB6-BCAF-8C4256B8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A9F27-68DD-4DFD-9DF3-B94C70E3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E7F87-0A15-420C-977A-958512F5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E44A2-AAC9-4505-89A5-599D6EE7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20C5-D180-4F91-86F8-CDE0B0DD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04A50-7BE9-483F-BAC4-D48D2B57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61D07-7CB4-4904-A779-113E1898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679E2-9DCA-4FD7-B3C1-14D5BFB4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44D8-1047-4231-9D89-43C673E79D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965E-1407-4073-956C-92E1E1613E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Till There Was No Remedy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(The Divided Kingdom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rter 6, Lesson 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g. 53-5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Kings 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phetic The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l Summ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ll for repent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ay of the Lo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d’s concern for n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essia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New Spiritual Order to co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o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ease and Agonizing Death of Jehoram of Judah – 2 Chron.21:18-2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horam, son of Ahab, still reigns in Isra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Stories About Elish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isha Increases A Widow’s Oil – 2 Kings 4:1-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widow’s crisis – v.1-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isha’s miraculous aid – 3-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hunammite Woman – 4:8-3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room for hospitality – 8-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reward:  she will have a son – 11-1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Trial:  her son dies – 18-2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Testimony:  Elisha is empowered by God to raise the son from the dead – 22-3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362320" y="3886200"/>
            <a:ext cx="1371600" cy="5335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304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hun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7160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rom Shunem to Mt. Carmel and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50000">
            <a:off x="1219320" y="2209320"/>
            <a:ext cx="4572000" cy="381240"/>
          </a:xfrm>
          <a:prstGeom prst="leftRightArrow">
            <a:avLst>
              <a:gd name="adj1" fmla="val 50000"/>
              <a:gd name="adj2" fmla="val 23873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Stories of Elish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isha Purifies Stew – 2 Kings 4:38-4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oisonous F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used by wild gour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rified by flour and mirac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 you see parallels between Elisha and Jesu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15:54:39Z</dcterms:created>
  <dc:creator>Terry W. Benton</dc:creator>
  <dc:description/>
  <dc:language>en-US</dc:language>
  <cp:lastModifiedBy>Frank D Vines</cp:lastModifiedBy>
  <dcterms:modified xsi:type="dcterms:W3CDTF">2005-08-09T13:28:39Z</dcterms:modified>
  <cp:revision>2</cp:revision>
  <dc:subject/>
  <dc:title>Till There Was No Remedy (The Divided Kingdom)</dc:title>
</cp:coreProperties>
</file>